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31827-A87E-40AA-91EF-1F9AC6302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3347-223E-43ED-950B-6989082B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70F1B-93D0-4F26-8443-276A01609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2065E-1CB5-42D9-AA47-D6BC10F38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6CB47-AD01-49DD-8280-FAB29145B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5216-85A7-473B-88BC-F5F37B900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2FC46-B809-41CD-AC3A-769204CBA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B1734-7A8F-46A6-9F6A-C38DFFE9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18B8D-C72E-4A58-A924-5D5477E37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A77E1-5F09-4DBA-95B1-6C0EB083C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588C7-63AA-47CE-85FA-6F80A2004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9F96-EF2E-4EBD-BD28-596DBD673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3D1D4-CA37-4061-8CD8-AA35291EC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FC1D-6088-4298-8D01-1CFB0FEB6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04F36-CD51-4F1D-9968-27C9593D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92554-F9B2-4EF6-9520-A337209E5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744C5-D620-462B-AA9F-C173AC130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B5BBE3-9FE6-4BE3-984F-E78B76747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4D48F-F350-4E8D-8416-3B5F80AE2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E2C2E-B87D-42AB-B673-51A446B00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77FFD-5D1B-4EFC-9D2C-129C1F07A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7132A-F3FA-4F0B-BE08-A199D9F8F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528E-175C-48CA-AABB-4ECD3AEF8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E8A0E-B2FE-4B2B-8CA2-77A5DC189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A8167-0811-4465-A34D-6593FAD16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A1D28-82E6-4F03-9B9F-59D77A440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FB9A5-CCDD-4C68-BA34-A65F6988B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9FB7D-9CBF-48DA-AC94-949F67E22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23121-2536-4875-B7A1-C65F7A921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C52F3-7A2F-4DC0-BDC5-84A4C91C7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DBCAAD-5BF7-4DB4-B92C-ADC30A666D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C4A2C-7B2C-44DD-8559-522D5A0AF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7A29D-92EB-43C9-99D3-7D1A576EA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3786-F3F0-4E52-A16D-12B9F50F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358FA-7DE7-4D2A-A1E8-97245E8B0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2BC2F-CAB1-4568-916C-1A0C4C0C5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3FEE6-9FC2-4367-B8F8-B92ED52DE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4253C-1195-4FBE-8727-A27E8407D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F3C56-5DAE-418A-8E08-ABC97FC12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77567-D42F-4E0A-84F5-6F9F9C13C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4D871-7BF6-40E5-BE7B-0B0672DCC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A7FAC3-FEAF-4419-80F2-1ECABBBFF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FE9391-1627-4B93-B762-80DAB7D68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C5FC-65D4-4910-80B5-214E51E62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7DD1-8D5E-4204-9567-803758B6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4C23-3BD8-4D95-978C-C07F3A25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50560-84B0-418A-984A-ED4CC05C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33DB-682B-4BE6-AF68-BBFDD3587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9014-460A-4632-A141-12294826796C}" type="slidenum">
              <a:rPr b="0" lang="en-PH"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82FB-AD2A-448B-8FFB-3736C268227F}" type="slidenum">
              <a:rPr b="0" lang="en-PH"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3408-1BC3-478A-B498-4D90EFC4F85F}" type="slidenum">
              <a:rPr b="0" lang="en-PH"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185E-BDAD-434A-9131-A75845433C1F}" type="slidenum">
              <a:rPr b="0" lang="en-PH"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200" spc="-1" strike="noStrike">
                <a:solidFill>
                  <a:srgbClr val="90c226"/>
                </a:solidFill>
                <a:latin typeface="Trebuchet MS"/>
              </a:rPr>
              <a:t>Supply and Property Management Office</a:t>
            </a:r>
            <a:endParaRPr b="0" lang="en-US" sz="32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entral Storeroom</a:t>
            </a:r>
            <a:endParaRPr b="0" lang="en-US" sz="3600" spc="-1" strike="noStrike">
              <a:solidFill>
                <a:srgbClr val="90c226"/>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cure and maintain stocks of commonly used office supplie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nitor/follow-up the submission of Annual Procurement Pla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onduct regular inventory of storeroom stock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s necessary, coordinate with concerned units to form modifications/revision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Check if supply is available at the storeroom before buying from other source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the item to be procured is included in the Annual Procurement Pla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dministrative and Technical Support Services</a:t>
            </a:r>
            <a:endParaRPr b="0" lang="en-US" sz="3600" spc="-1" strike="noStrike">
              <a:solidFill>
                <a:srgbClr val="90c226"/>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Receive and record incoming and outgoing communication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Record and file documents/communication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onduct pre-repair inspectio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ssist in inspection of deliverie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3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forms are properly filled-up and documents are complet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Schedule pre-repair and delivery inspection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Leave contact number</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Location and Contact Numbers</a:t>
            </a:r>
            <a:endParaRPr b="0" lang="en-US" sz="3600" spc="-1" strike="noStrike">
              <a:solidFill>
                <a:srgbClr val="90c226"/>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Lakandula Street (at the back of the Archeological Studies Program)</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Procurement and Inspection Section – 4581, 4582</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perty Inventory and Disposal Section – 4576, 458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entral Storeroom - 4577</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dministrative and Technical Support Services - 4589</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200" spc="-1" strike="noStrike">
                <a:solidFill>
                  <a:srgbClr val="404040"/>
                </a:solidFill>
                <a:latin typeface="Trebuchet MS"/>
              </a:rPr>
              <a:t>spmo.upd.edu.ph</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General Functions</a:t>
            </a:r>
            <a:endParaRPr b="0" lang="en-US" sz="3600" spc="-1" strike="noStrike">
              <a:solidFill>
                <a:srgbClr val="90c226"/>
              </a:solidFill>
              <a:latin typeface="Trebuchet MS"/>
            </a:endParaRPr>
          </a:p>
        </p:txBody>
      </p:sp>
      <p:sp>
        <p:nvSpPr>
          <p:cNvPr id="214" name=""/>
          <p:cNvSpPr txBox="1"/>
          <p:nvPr/>
        </p:nvSpPr>
        <p:spPr>
          <a:xfrm>
            <a:off x="677520" y="2160360"/>
            <a:ext cx="8596440" cy="3881160"/>
          </a:xfrm>
          <a:prstGeom prst="rect">
            <a:avLst/>
          </a:prstGeom>
          <a:noFill/>
          <a:ln w="0">
            <a:noFill/>
          </a:ln>
        </p:spPr>
        <p:txBody>
          <a:bodyPr anchor="t">
            <a:normAutofit fontScale="98000"/>
          </a:bodyPr>
          <a:p>
            <a:pPr marL="335880" indent="-335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cessing of procurement requests for supplies and equipment and their corresponding acquisitions;</a:t>
            </a:r>
            <a:endParaRPr b="0" lang="en-US" sz="2400" spc="-1" strike="noStrike">
              <a:solidFill>
                <a:srgbClr val="404040"/>
              </a:solidFill>
              <a:latin typeface="Trebuchet MS"/>
            </a:endParaRPr>
          </a:p>
          <a:p>
            <a:pPr marL="335880" indent="-335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intenance of inventory stocks of basic office supplies and their issuances to various requesting units;</a:t>
            </a:r>
            <a:endParaRPr b="0" lang="en-US" sz="2400" spc="-1" strike="noStrike">
              <a:solidFill>
                <a:srgbClr val="404040"/>
              </a:solidFill>
              <a:latin typeface="Trebuchet MS"/>
            </a:endParaRPr>
          </a:p>
          <a:p>
            <a:pPr marL="335880" indent="-335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intaining and updating of University property database (excluding buildings and library books); </a:t>
            </a:r>
            <a:endParaRPr b="0" lang="en-US" sz="2400" spc="-1" strike="noStrike">
              <a:solidFill>
                <a:srgbClr val="404040"/>
              </a:solidFill>
              <a:latin typeface="Trebuchet MS"/>
            </a:endParaRPr>
          </a:p>
          <a:p>
            <a:pPr marL="335880" indent="-335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Disposal of unserviceable properties and equipment; and</a:t>
            </a:r>
            <a:endParaRPr b="0" lang="en-US" sz="2400" spc="-1" strike="noStrike">
              <a:solidFill>
                <a:srgbClr val="404040"/>
              </a:solidFill>
              <a:latin typeface="Trebuchet MS"/>
            </a:endParaRPr>
          </a:p>
          <a:p>
            <a:pPr marL="335880" indent="-335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cessing of GSIS insurance payments for University propertie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Procurement and Inspection Section </a:t>
            </a:r>
            <a:endParaRPr b="0" lang="en-US" sz="3600" spc="-1" strike="noStrike">
              <a:solidFill>
                <a:srgbClr val="90c226"/>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cures supplies, materials, equipment and services for offices and uni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rovides information and technical advice to the different offices/units relative to procurement of supplies, materials, equipment and service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erves as Bids and Awards Committee (BAC) secretariat during the conduct of public bidd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nspects deliveries of newly acquired properties/ equipment</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the item to be procured is included in the Annual Procurement Pla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Purchase request is duly approved and funde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Technical specification is complet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Do not specify country of origin of item</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Do not specify brand name or model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Avoid splitting of procurement of item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authorized person signs the purchase request, inspection report and other documen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No communication between supplier and und-user during the evaluation of offer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a pre-repair inspection is conducte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As a general rule, procuring entities shall adopt public bidding as the general mode of procurement and shall see to it that the procurement program allows sufficient lead time for such public bidding</a:t>
            </a:r>
            <a:r>
              <a:rPr b="0" i="1" lang="en-PH" sz="2400" spc="-1" strike="noStrike">
                <a:solidFill>
                  <a:srgbClr val="404040"/>
                </a:solidFill>
                <a:latin typeface="Trebuchet MS"/>
              </a:rPr>
              <a:t>.  </a:t>
            </a:r>
            <a:r>
              <a:rPr b="1" i="1" lang="en-PH" sz="2400" spc="-1" strike="noStrike">
                <a:solidFill>
                  <a:srgbClr val="404040"/>
                </a:solidFill>
                <a:latin typeface="Trebuchet MS"/>
              </a:rPr>
              <a:t>Alternative methods shall be resorted to only in highly exceptional cases</a:t>
            </a:r>
            <a:r>
              <a:rPr b="0" lang="en-PH" sz="2400" spc="-1" strike="noStrike">
                <a:solidFill>
                  <a:srgbClr val="404040"/>
                </a:solidFill>
                <a:latin typeface="Trebuchet MS"/>
              </a:rPr>
              <a:t>. (Section 48.2 Implementing Rules and Regulations of RA 9184).</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operty Inventory and Disposal Section</a:t>
            </a:r>
            <a:endParaRPr b="0" lang="en-US" sz="36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intain and update the central inventory records of properties/equipment;</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nitor and follow-up submission of inventory repor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onsolidate inventory repor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n charge of insurance of University properties/equipment, insurance claim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operty Inventory and Disposal Section</a:t>
            </a:r>
            <a:endParaRPr b="0" lang="en-US" sz="36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n charge of the disposal of supplies, materials and equipment which are unserviceable/obsolete, condemned or no longer needed by uni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n charge of valuating the scrap, unserviceable and no longer needed properties of unit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intain database and records of condemned properties/equipment;</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ssue property clearance of separated/retiring employee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600" spc="-1" strike="noStrike">
                <a:solidFill>
                  <a:srgbClr val="90c226"/>
                </a:solidFill>
                <a:latin typeface="Trebuchet MS"/>
              </a:rPr>
              <a:t>Reminders</a:t>
            </a:r>
            <a:endParaRPr b="0" lang="en-US" sz="3600" spc="-1" strike="noStrike">
              <a:solidFill>
                <a:srgbClr val="90c226"/>
              </a:solidFill>
              <a:latin typeface="Trebuchet MS"/>
            </a:endParaRPr>
          </a:p>
        </p:txBody>
      </p:sp>
      <p:sp>
        <p:nvSpPr>
          <p:cNvPr id="22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Make sure that authorized person signs the Acknowledgment Receipt of Equipment or Inventory Custodian Receipt;</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2400" spc="-1" strike="noStrike">
                <a:solidFill>
                  <a:srgbClr val="404040"/>
                </a:solidFill>
                <a:latin typeface="Trebuchet MS"/>
              </a:rPr>
              <a:t>An IIURP is prepared before disposal of properties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5T15:18:21Z</dcterms:created>
  <dc:creator>Dan Saguil</dc:creator>
  <dc:description/>
  <dc:language>en-US</dc:language>
  <cp:lastModifiedBy>zz</cp:lastModifiedBy>
  <dcterms:modified xsi:type="dcterms:W3CDTF">2015-04-06T02:02:46Z</dcterms:modified>
  <cp:revision>13</cp:revision>
  <dc:subject/>
  <dc:title>PowerPoint Presentation</dc:title>
</cp:coreProperties>
</file>